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4835C-5C98-4D1B-B9A1-E14B6D5C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C3637-A5EA-4189-BDCF-284C89D6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4EF61-AFA1-4805-9AF5-4418552A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60050-10DA-4FD6-95C5-A06E4DCE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6CA0-F6B3-4B1A-A632-7763E191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E696-DF70-41E2-B0E4-B01AD231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5298-0944-41A8-8B37-0DA46EF7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54DC-7409-469F-8CE8-4651059B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5509-C6B3-4530-8965-A79F445A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95F0-AF2A-4C80-B399-76517FE0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20FA-49DB-4429-9D63-C458F011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1172B-1667-40BB-A2F7-BB029418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A9CB-22FC-4D3B-85F9-786C8D47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6F90-FA92-45C6-8271-C1F9897D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C999-B100-4C94-B33B-542B26EF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21E6-EF4D-436B-846F-836A8070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F24F-FDAE-4D22-A2F8-C87066A0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26CEF-4802-4670-A258-4A288851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6BFE7-3714-4715-84F0-42747CD3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1B12-DF15-4B01-8E66-FDC134A1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A1034-5611-406B-BC7A-1E47BCF5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81909-B5A7-40D2-A325-646324E8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E20FE-986C-467B-BF62-F5F2520D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58F78-AFEC-4FA7-9643-B56FAA22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551E-329A-4CA2-9CB7-E8AE1195F9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7D9D-9235-4860-9238-F8497BDBD5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uble Column Transposi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816768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uble column transposition cipher works just as the name impl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is enciphered using a column transposition and then the resulting ciphertext is enciphered again using a column trans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may the same for transpositions or it may be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 is hopefully, a thorough mixing of the positions of the plaintext let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C3C23-F45C-42A8-AFAA-B994A45145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pher the phrase “encryption algorithms” tw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360" y="304308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sing the keyword next:  2-1-4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03200" y="4373640"/>
            <a:ext cx="1106640" cy="1659600"/>
            <a:chOff x="403200" y="4373640"/>
            <a:chExt cx="1106640" cy="1659600"/>
          </a:xfrm>
        </p:grpSpPr>
        <p:grpSp>
          <p:nvGrpSpPr>
            <p:cNvPr id="119" name=""/>
            <p:cNvGrpSpPr/>
            <p:nvPr/>
          </p:nvGrpSpPr>
          <p:grpSpPr>
            <a:xfrm>
              <a:off x="419400" y="4707000"/>
              <a:ext cx="1090440" cy="1326240"/>
              <a:chOff x="419400" y="4707000"/>
              <a:chExt cx="1090440" cy="132624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952920" y="4707000"/>
                <a:ext cx="280800" cy="1326240"/>
                <a:chOff x="952920" y="4707000"/>
                <a:chExt cx="280800" cy="132624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952920" y="4707000"/>
                  <a:ext cx="280800" cy="278280"/>
                  <a:chOff x="952920" y="4707000"/>
                  <a:chExt cx="280800" cy="27828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96696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95292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952920" y="4964400"/>
                  <a:ext cx="280800" cy="278280"/>
                  <a:chOff x="952920" y="4964400"/>
                  <a:chExt cx="280800" cy="27828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96696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95292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952920" y="5230800"/>
                  <a:ext cx="280800" cy="278280"/>
                  <a:chOff x="952920" y="5230800"/>
                  <a:chExt cx="280800" cy="27828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96696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95292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952920" y="5497560"/>
                  <a:ext cx="280800" cy="278280"/>
                  <a:chOff x="952920" y="5497560"/>
                  <a:chExt cx="280800" cy="2782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96696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95292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952920" y="5754960"/>
                  <a:ext cx="280800" cy="278280"/>
                  <a:chOff x="952920" y="5754960"/>
                  <a:chExt cx="280800" cy="2782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96696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95292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1229040" y="4707000"/>
                <a:ext cx="280800" cy="1326240"/>
                <a:chOff x="1229040" y="4707000"/>
                <a:chExt cx="280800" cy="132624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1229040" y="4707000"/>
                  <a:ext cx="280800" cy="278280"/>
                  <a:chOff x="1229040" y="4707000"/>
                  <a:chExt cx="280800" cy="27828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124308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22904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1229040" y="4964400"/>
                  <a:ext cx="280800" cy="278280"/>
                  <a:chOff x="1229040" y="4964400"/>
                  <a:chExt cx="280800" cy="2782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124308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22904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1229040" y="5230800"/>
                  <a:ext cx="280800" cy="278280"/>
                  <a:chOff x="1229040" y="5230800"/>
                  <a:chExt cx="280800" cy="27828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124308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22904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1229040" y="5497560"/>
                  <a:ext cx="280800" cy="278280"/>
                  <a:chOff x="1229040" y="5497560"/>
                  <a:chExt cx="280800" cy="2782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124308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22904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1229040" y="5754960"/>
                  <a:ext cx="280800" cy="278280"/>
                  <a:chOff x="1229040" y="5754960"/>
                  <a:chExt cx="280800" cy="27828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124308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22904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" name=""/>
              <p:cNvGrpSpPr/>
              <p:nvPr/>
            </p:nvGrpSpPr>
            <p:grpSpPr>
              <a:xfrm>
                <a:off x="686160" y="4707000"/>
                <a:ext cx="280800" cy="1326240"/>
                <a:chOff x="686160" y="4707000"/>
                <a:chExt cx="280800" cy="132624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686160" y="4707000"/>
                  <a:ext cx="280800" cy="278280"/>
                  <a:chOff x="686160" y="4707000"/>
                  <a:chExt cx="280800" cy="27828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70020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68616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686160" y="4964400"/>
                  <a:ext cx="280800" cy="278280"/>
                  <a:chOff x="686160" y="4964400"/>
                  <a:chExt cx="280800" cy="27828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70020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68616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86160" y="5230800"/>
                  <a:ext cx="280800" cy="278280"/>
                  <a:chOff x="686160" y="5230800"/>
                  <a:chExt cx="280800" cy="2782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0020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8616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86160" y="5497560"/>
                  <a:ext cx="280800" cy="278280"/>
                  <a:chOff x="686160" y="5497560"/>
                  <a:chExt cx="280800" cy="27828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70020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68616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86160" y="5754960"/>
                  <a:ext cx="280800" cy="278280"/>
                  <a:chOff x="686160" y="5754960"/>
                  <a:chExt cx="280800" cy="27828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70020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68616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419400" y="4707000"/>
                <a:ext cx="280800" cy="1326240"/>
                <a:chOff x="419400" y="4707000"/>
                <a:chExt cx="280800" cy="132624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419400" y="4707000"/>
                  <a:ext cx="280800" cy="278280"/>
                  <a:chOff x="419400" y="4707000"/>
                  <a:chExt cx="280800" cy="2782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43344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1940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419400" y="4964400"/>
                  <a:ext cx="280800" cy="278280"/>
                  <a:chOff x="419400" y="4964400"/>
                  <a:chExt cx="280800" cy="2782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43344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41940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419400" y="5230800"/>
                  <a:ext cx="280800" cy="278280"/>
                  <a:chOff x="419400" y="5230800"/>
                  <a:chExt cx="280800" cy="2782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43344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1940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419400" y="5497560"/>
                  <a:ext cx="280800" cy="278280"/>
                  <a:chOff x="419400" y="5497560"/>
                  <a:chExt cx="280800" cy="2782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43344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41940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419400" y="5754960"/>
                  <a:ext cx="280800" cy="278280"/>
                  <a:chOff x="419400" y="5754960"/>
                  <a:chExt cx="280800" cy="2782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43344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41940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4" name=""/>
            <p:cNvGrpSpPr/>
            <p:nvPr/>
          </p:nvGrpSpPr>
          <p:grpSpPr>
            <a:xfrm>
              <a:off x="403200" y="4373640"/>
              <a:ext cx="1095480" cy="377640"/>
              <a:chOff x="403200" y="4373640"/>
              <a:chExt cx="1095480" cy="377640"/>
            </a:xfrm>
          </p:grpSpPr>
          <p:sp>
            <p:nvSpPr>
              <p:cNvPr id="185" name=""/>
              <p:cNvSpPr/>
              <p:nvPr/>
            </p:nvSpPr>
            <p:spPr>
              <a:xfrm>
                <a:off x="40320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9876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5580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0348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3726360" y="363384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nd using the keyword image:  4-5-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86520" y="4707000"/>
            <a:ext cx="280440" cy="1325520"/>
            <a:chOff x="686520" y="4707000"/>
            <a:chExt cx="280440" cy="1325520"/>
          </a:xfrm>
        </p:grpSpPr>
        <p:grpSp>
          <p:nvGrpSpPr>
            <p:cNvPr id="191" name=""/>
            <p:cNvGrpSpPr/>
            <p:nvPr/>
          </p:nvGrpSpPr>
          <p:grpSpPr>
            <a:xfrm>
              <a:off x="686520" y="5754600"/>
              <a:ext cx="280440" cy="277920"/>
              <a:chOff x="686520" y="5754600"/>
              <a:chExt cx="280440" cy="277920"/>
            </a:xfrm>
          </p:grpSpPr>
          <p:sp>
            <p:nvSpPr>
              <p:cNvPr id="192" name=""/>
              <p:cNvSpPr/>
              <p:nvPr/>
            </p:nvSpPr>
            <p:spPr>
              <a:xfrm>
                <a:off x="700200" y="57546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6520" y="5756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86520" y="5487840"/>
              <a:ext cx="280440" cy="277920"/>
              <a:chOff x="686520" y="5487840"/>
              <a:chExt cx="280440" cy="277920"/>
            </a:xfrm>
          </p:grpSpPr>
          <p:sp>
            <p:nvSpPr>
              <p:cNvPr id="195" name=""/>
              <p:cNvSpPr/>
              <p:nvPr/>
            </p:nvSpPr>
            <p:spPr>
              <a:xfrm>
                <a:off x="700200" y="54878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6520" y="54892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86520" y="5221080"/>
              <a:ext cx="280440" cy="277920"/>
              <a:chOff x="686520" y="5221080"/>
              <a:chExt cx="280440" cy="277920"/>
            </a:xfrm>
          </p:grpSpPr>
          <p:sp>
            <p:nvSpPr>
              <p:cNvPr id="198" name=""/>
              <p:cNvSpPr/>
              <p:nvPr/>
            </p:nvSpPr>
            <p:spPr>
              <a:xfrm>
                <a:off x="700200" y="5221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8652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86520" y="4973400"/>
              <a:ext cx="280440" cy="277920"/>
              <a:chOff x="686520" y="4973400"/>
              <a:chExt cx="280440" cy="277920"/>
            </a:xfrm>
          </p:grpSpPr>
          <p:sp>
            <p:nvSpPr>
              <p:cNvPr id="201" name=""/>
              <p:cNvSpPr/>
              <p:nvPr/>
            </p:nvSpPr>
            <p:spPr>
              <a:xfrm>
                <a:off x="700200" y="49734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6520" y="49748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86520" y="4707000"/>
              <a:ext cx="280440" cy="277920"/>
              <a:chOff x="686520" y="4707000"/>
              <a:chExt cx="280440" cy="277920"/>
            </a:xfrm>
          </p:grpSpPr>
          <p:sp>
            <p:nvSpPr>
              <p:cNvPr id="204" name=""/>
              <p:cNvSpPr/>
              <p:nvPr/>
            </p:nvSpPr>
            <p:spPr>
              <a:xfrm>
                <a:off x="700200" y="47070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6520" y="47084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2924640" y="4363920"/>
            <a:ext cx="1385280" cy="592200"/>
            <a:chOff x="2924640" y="4363920"/>
            <a:chExt cx="1385280" cy="592200"/>
          </a:xfrm>
        </p:grpSpPr>
        <p:grpSp>
          <p:nvGrpSpPr>
            <p:cNvPr id="207" name=""/>
            <p:cNvGrpSpPr/>
            <p:nvPr/>
          </p:nvGrpSpPr>
          <p:grpSpPr>
            <a:xfrm>
              <a:off x="2924640" y="4678200"/>
              <a:ext cx="1385280" cy="277920"/>
              <a:chOff x="2924640" y="4678200"/>
              <a:chExt cx="1385280" cy="27792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2924640" y="4678200"/>
                <a:ext cx="280440" cy="277920"/>
                <a:chOff x="2924640" y="4678200"/>
                <a:chExt cx="280440" cy="2779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293832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92464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029480" y="4678200"/>
                <a:ext cx="280440" cy="277920"/>
                <a:chOff x="4029480" y="4678200"/>
                <a:chExt cx="280440" cy="2779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04316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02948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753360" y="4678200"/>
                <a:ext cx="280440" cy="277920"/>
                <a:chOff x="3753360" y="4678200"/>
                <a:chExt cx="280440" cy="2779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76704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75336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477240" y="4678200"/>
                <a:ext cx="280440" cy="277920"/>
                <a:chOff x="3477240" y="4678200"/>
                <a:chExt cx="280440" cy="2779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49092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47724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200760" y="4678200"/>
                <a:ext cx="280440" cy="277920"/>
                <a:chOff x="3200760" y="4678200"/>
                <a:chExt cx="280440" cy="2779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21444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0076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2927160" y="4363920"/>
              <a:ext cx="1371600" cy="387360"/>
              <a:chOff x="2927160" y="4363920"/>
              <a:chExt cx="1371600" cy="387360"/>
            </a:xfrm>
          </p:grpSpPr>
          <p:sp>
            <p:nvSpPr>
              <p:cNvPr id="224" name=""/>
              <p:cNvSpPr/>
              <p:nvPr/>
            </p:nvSpPr>
            <p:spPr>
              <a:xfrm>
                <a:off x="2927160" y="43639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222360" y="43639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47940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2708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0356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2924640" y="5478480"/>
            <a:ext cx="1385280" cy="277920"/>
            <a:chOff x="2924640" y="5478480"/>
            <a:chExt cx="1385280" cy="277920"/>
          </a:xfrm>
        </p:grpSpPr>
        <p:grpSp>
          <p:nvGrpSpPr>
            <p:cNvPr id="230" name=""/>
            <p:cNvGrpSpPr/>
            <p:nvPr/>
          </p:nvGrpSpPr>
          <p:grpSpPr>
            <a:xfrm>
              <a:off x="2924640" y="5478480"/>
              <a:ext cx="280440" cy="277920"/>
              <a:chOff x="2924640" y="5478480"/>
              <a:chExt cx="280440" cy="277920"/>
            </a:xfrm>
          </p:grpSpPr>
          <p:sp>
            <p:nvSpPr>
              <p:cNvPr id="231" name=""/>
              <p:cNvSpPr/>
              <p:nvPr/>
            </p:nvSpPr>
            <p:spPr>
              <a:xfrm>
                <a:off x="293832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2464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029480" y="5478480"/>
              <a:ext cx="280440" cy="277920"/>
              <a:chOff x="4029480" y="5478480"/>
              <a:chExt cx="280440" cy="277920"/>
            </a:xfrm>
          </p:grpSpPr>
          <p:sp>
            <p:nvSpPr>
              <p:cNvPr id="234" name=""/>
              <p:cNvSpPr/>
              <p:nvPr/>
            </p:nvSpPr>
            <p:spPr>
              <a:xfrm>
                <a:off x="404316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02948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753360" y="5478480"/>
              <a:ext cx="280440" cy="277920"/>
              <a:chOff x="3753360" y="5478480"/>
              <a:chExt cx="280440" cy="277920"/>
            </a:xfrm>
          </p:grpSpPr>
          <p:sp>
            <p:nvSpPr>
              <p:cNvPr id="237" name=""/>
              <p:cNvSpPr/>
              <p:nvPr/>
            </p:nvSpPr>
            <p:spPr>
              <a:xfrm>
                <a:off x="376704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5336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477240" y="5478480"/>
              <a:ext cx="280440" cy="277920"/>
              <a:chOff x="3477240" y="5478480"/>
              <a:chExt cx="280440" cy="277920"/>
            </a:xfrm>
          </p:grpSpPr>
          <p:sp>
            <p:nvSpPr>
              <p:cNvPr id="240" name=""/>
              <p:cNvSpPr/>
              <p:nvPr/>
            </p:nvSpPr>
            <p:spPr>
              <a:xfrm>
                <a:off x="349092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47724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200760" y="5478480"/>
              <a:ext cx="280440" cy="277920"/>
              <a:chOff x="3200760" y="5478480"/>
              <a:chExt cx="280440" cy="277920"/>
            </a:xfrm>
          </p:grpSpPr>
          <p:sp>
            <p:nvSpPr>
              <p:cNvPr id="243" name=""/>
              <p:cNvSpPr/>
              <p:nvPr/>
            </p:nvSpPr>
            <p:spPr>
              <a:xfrm>
                <a:off x="321444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0076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"/>
          <p:cNvSpPr/>
          <p:nvPr/>
        </p:nvSpPr>
        <p:spPr>
          <a:xfrm flipV="1">
            <a:off x="941400" y="4830480"/>
            <a:ext cx="1895400" cy="2379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10040" y="4697280"/>
            <a:ext cx="280440" cy="1344960"/>
            <a:chOff x="410040" y="4697280"/>
            <a:chExt cx="280440" cy="1344960"/>
          </a:xfrm>
        </p:grpSpPr>
        <p:grpSp>
          <p:nvGrpSpPr>
            <p:cNvPr id="247" name=""/>
            <p:cNvGrpSpPr/>
            <p:nvPr/>
          </p:nvGrpSpPr>
          <p:grpSpPr>
            <a:xfrm>
              <a:off x="410040" y="5764320"/>
              <a:ext cx="280440" cy="277920"/>
              <a:chOff x="410040" y="5764320"/>
              <a:chExt cx="280440" cy="277920"/>
            </a:xfrm>
          </p:grpSpPr>
          <p:sp>
            <p:nvSpPr>
              <p:cNvPr id="248" name=""/>
              <p:cNvSpPr/>
              <p:nvPr/>
            </p:nvSpPr>
            <p:spPr>
              <a:xfrm>
                <a:off x="42372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004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10040" y="5497560"/>
              <a:ext cx="280440" cy="277920"/>
              <a:chOff x="410040" y="5497560"/>
              <a:chExt cx="280440" cy="277920"/>
            </a:xfrm>
          </p:grpSpPr>
          <p:sp>
            <p:nvSpPr>
              <p:cNvPr id="251" name=""/>
              <p:cNvSpPr/>
              <p:nvPr/>
            </p:nvSpPr>
            <p:spPr>
              <a:xfrm>
                <a:off x="42372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004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10040" y="5230800"/>
              <a:ext cx="280440" cy="277920"/>
              <a:chOff x="410040" y="5230800"/>
              <a:chExt cx="280440" cy="277920"/>
            </a:xfrm>
          </p:grpSpPr>
          <p:sp>
            <p:nvSpPr>
              <p:cNvPr id="254" name=""/>
              <p:cNvSpPr/>
              <p:nvPr/>
            </p:nvSpPr>
            <p:spPr>
              <a:xfrm>
                <a:off x="42372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004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410040" y="4964040"/>
              <a:ext cx="280440" cy="277920"/>
              <a:chOff x="410040" y="4964040"/>
              <a:chExt cx="280440" cy="277920"/>
            </a:xfrm>
          </p:grpSpPr>
          <p:sp>
            <p:nvSpPr>
              <p:cNvPr id="257" name=""/>
              <p:cNvSpPr/>
              <p:nvPr/>
            </p:nvSpPr>
            <p:spPr>
              <a:xfrm>
                <a:off x="42372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1004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10040" y="4697280"/>
              <a:ext cx="280440" cy="277920"/>
              <a:chOff x="410040" y="4697280"/>
              <a:chExt cx="280440" cy="277920"/>
            </a:xfrm>
          </p:grpSpPr>
          <p:sp>
            <p:nvSpPr>
              <p:cNvPr id="260" name=""/>
              <p:cNvSpPr/>
              <p:nvPr/>
            </p:nvSpPr>
            <p:spPr>
              <a:xfrm>
                <a:off x="42372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004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 flipV="1">
            <a:off x="636480" y="5049360"/>
            <a:ext cx="2181240" cy="181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924640" y="4954680"/>
            <a:ext cx="1385280" cy="277920"/>
            <a:chOff x="2924640" y="4954680"/>
            <a:chExt cx="1385280" cy="277920"/>
          </a:xfrm>
        </p:grpSpPr>
        <p:grpSp>
          <p:nvGrpSpPr>
            <p:cNvPr id="264" name=""/>
            <p:cNvGrpSpPr/>
            <p:nvPr/>
          </p:nvGrpSpPr>
          <p:grpSpPr>
            <a:xfrm>
              <a:off x="2924640" y="4954680"/>
              <a:ext cx="280440" cy="277920"/>
              <a:chOff x="2924640" y="4954680"/>
              <a:chExt cx="280440" cy="277920"/>
            </a:xfrm>
          </p:grpSpPr>
          <p:sp>
            <p:nvSpPr>
              <p:cNvPr id="265" name=""/>
              <p:cNvSpPr/>
              <p:nvPr/>
            </p:nvSpPr>
            <p:spPr>
              <a:xfrm>
                <a:off x="293832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92464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29480" y="4954680"/>
              <a:ext cx="280440" cy="277920"/>
              <a:chOff x="4029480" y="4954680"/>
              <a:chExt cx="280440" cy="277920"/>
            </a:xfrm>
          </p:grpSpPr>
          <p:sp>
            <p:nvSpPr>
              <p:cNvPr id="268" name=""/>
              <p:cNvSpPr/>
              <p:nvPr/>
            </p:nvSpPr>
            <p:spPr>
              <a:xfrm>
                <a:off x="404316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948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753360" y="4954680"/>
              <a:ext cx="280440" cy="277920"/>
              <a:chOff x="3753360" y="4954680"/>
              <a:chExt cx="280440" cy="277920"/>
            </a:xfrm>
          </p:grpSpPr>
          <p:sp>
            <p:nvSpPr>
              <p:cNvPr id="271" name=""/>
              <p:cNvSpPr/>
              <p:nvPr/>
            </p:nvSpPr>
            <p:spPr>
              <a:xfrm>
                <a:off x="376704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5336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3477240" y="4954680"/>
              <a:ext cx="280440" cy="277920"/>
              <a:chOff x="3477240" y="4954680"/>
              <a:chExt cx="280440" cy="277920"/>
            </a:xfrm>
          </p:grpSpPr>
          <p:sp>
            <p:nvSpPr>
              <p:cNvPr id="274" name=""/>
              <p:cNvSpPr/>
              <p:nvPr/>
            </p:nvSpPr>
            <p:spPr>
              <a:xfrm>
                <a:off x="349092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7724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200760" y="4954680"/>
              <a:ext cx="280440" cy="277920"/>
              <a:chOff x="3200760" y="4954680"/>
              <a:chExt cx="280440" cy="277920"/>
            </a:xfrm>
          </p:grpSpPr>
          <p:sp>
            <p:nvSpPr>
              <p:cNvPr id="277" name=""/>
              <p:cNvSpPr/>
              <p:nvPr/>
            </p:nvSpPr>
            <p:spPr>
              <a:xfrm>
                <a:off x="321444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20076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952920" y="4697280"/>
            <a:ext cx="280440" cy="1344960"/>
            <a:chOff x="952920" y="4697280"/>
            <a:chExt cx="280440" cy="1344960"/>
          </a:xfrm>
        </p:grpSpPr>
        <p:grpSp>
          <p:nvGrpSpPr>
            <p:cNvPr id="280" name=""/>
            <p:cNvGrpSpPr/>
            <p:nvPr/>
          </p:nvGrpSpPr>
          <p:grpSpPr>
            <a:xfrm>
              <a:off x="952920" y="5764320"/>
              <a:ext cx="280440" cy="277920"/>
              <a:chOff x="952920" y="5764320"/>
              <a:chExt cx="280440" cy="277920"/>
            </a:xfrm>
          </p:grpSpPr>
          <p:sp>
            <p:nvSpPr>
              <p:cNvPr id="281" name=""/>
              <p:cNvSpPr/>
              <p:nvPr/>
            </p:nvSpPr>
            <p:spPr>
              <a:xfrm>
                <a:off x="96660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5292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952920" y="5497560"/>
              <a:ext cx="280440" cy="277920"/>
              <a:chOff x="952920" y="5497560"/>
              <a:chExt cx="280440" cy="277920"/>
            </a:xfrm>
          </p:grpSpPr>
          <p:sp>
            <p:nvSpPr>
              <p:cNvPr id="284" name=""/>
              <p:cNvSpPr/>
              <p:nvPr/>
            </p:nvSpPr>
            <p:spPr>
              <a:xfrm>
                <a:off x="96660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5292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952920" y="5230800"/>
              <a:ext cx="280440" cy="277920"/>
              <a:chOff x="952920" y="5230800"/>
              <a:chExt cx="280440" cy="277920"/>
            </a:xfrm>
          </p:grpSpPr>
          <p:sp>
            <p:nvSpPr>
              <p:cNvPr id="287" name=""/>
              <p:cNvSpPr/>
              <p:nvPr/>
            </p:nvSpPr>
            <p:spPr>
              <a:xfrm>
                <a:off x="96660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95292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952920" y="4964040"/>
              <a:ext cx="280440" cy="277920"/>
              <a:chOff x="952920" y="4964040"/>
              <a:chExt cx="280440" cy="277920"/>
            </a:xfrm>
          </p:grpSpPr>
          <p:sp>
            <p:nvSpPr>
              <p:cNvPr id="290" name=""/>
              <p:cNvSpPr/>
              <p:nvPr/>
            </p:nvSpPr>
            <p:spPr>
              <a:xfrm>
                <a:off x="96660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5292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952920" y="4697280"/>
              <a:ext cx="280440" cy="277920"/>
              <a:chOff x="952920" y="4697280"/>
              <a:chExt cx="280440" cy="277920"/>
            </a:xfrm>
          </p:grpSpPr>
          <p:sp>
            <p:nvSpPr>
              <p:cNvPr id="293" name=""/>
              <p:cNvSpPr/>
              <p:nvPr/>
            </p:nvSpPr>
            <p:spPr>
              <a:xfrm>
                <a:off x="96660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95292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1229400" y="4697280"/>
            <a:ext cx="280440" cy="1344960"/>
            <a:chOff x="1229400" y="4697280"/>
            <a:chExt cx="280440" cy="1344960"/>
          </a:xfrm>
        </p:grpSpPr>
        <p:grpSp>
          <p:nvGrpSpPr>
            <p:cNvPr id="296" name=""/>
            <p:cNvGrpSpPr/>
            <p:nvPr/>
          </p:nvGrpSpPr>
          <p:grpSpPr>
            <a:xfrm>
              <a:off x="1229400" y="5764320"/>
              <a:ext cx="280440" cy="277920"/>
              <a:chOff x="1229400" y="5764320"/>
              <a:chExt cx="280440" cy="277920"/>
            </a:xfrm>
          </p:grpSpPr>
          <p:sp>
            <p:nvSpPr>
              <p:cNvPr id="297" name=""/>
              <p:cNvSpPr/>
              <p:nvPr/>
            </p:nvSpPr>
            <p:spPr>
              <a:xfrm>
                <a:off x="124308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22940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229400" y="5497560"/>
              <a:ext cx="280440" cy="277920"/>
              <a:chOff x="1229400" y="5497560"/>
              <a:chExt cx="280440" cy="277920"/>
            </a:xfrm>
          </p:grpSpPr>
          <p:sp>
            <p:nvSpPr>
              <p:cNvPr id="300" name=""/>
              <p:cNvSpPr/>
              <p:nvPr/>
            </p:nvSpPr>
            <p:spPr>
              <a:xfrm>
                <a:off x="124308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22940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229400" y="5230800"/>
              <a:ext cx="280440" cy="277920"/>
              <a:chOff x="1229400" y="5230800"/>
              <a:chExt cx="280440" cy="277920"/>
            </a:xfrm>
          </p:grpSpPr>
          <p:sp>
            <p:nvSpPr>
              <p:cNvPr id="303" name=""/>
              <p:cNvSpPr/>
              <p:nvPr/>
            </p:nvSpPr>
            <p:spPr>
              <a:xfrm>
                <a:off x="124308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22940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1229400" y="4964040"/>
              <a:ext cx="280440" cy="277920"/>
              <a:chOff x="1229400" y="4964040"/>
              <a:chExt cx="280440" cy="277920"/>
            </a:xfrm>
          </p:grpSpPr>
          <p:sp>
            <p:nvSpPr>
              <p:cNvPr id="306" name=""/>
              <p:cNvSpPr/>
              <p:nvPr/>
            </p:nvSpPr>
            <p:spPr>
              <a:xfrm>
                <a:off x="124308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22940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229400" y="4697280"/>
              <a:ext cx="280440" cy="277920"/>
              <a:chOff x="1229400" y="4697280"/>
              <a:chExt cx="280440" cy="277920"/>
            </a:xfrm>
          </p:grpSpPr>
          <p:sp>
            <p:nvSpPr>
              <p:cNvPr id="309" name=""/>
              <p:cNvSpPr/>
              <p:nvPr/>
            </p:nvSpPr>
            <p:spPr>
              <a:xfrm>
                <a:off x="124308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2940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2924640" y="5221440"/>
            <a:ext cx="1385280" cy="277920"/>
            <a:chOff x="2924640" y="5221440"/>
            <a:chExt cx="1385280" cy="277920"/>
          </a:xfrm>
        </p:grpSpPr>
        <p:grpSp>
          <p:nvGrpSpPr>
            <p:cNvPr id="312" name=""/>
            <p:cNvGrpSpPr/>
            <p:nvPr/>
          </p:nvGrpSpPr>
          <p:grpSpPr>
            <a:xfrm>
              <a:off x="2924640" y="5221440"/>
              <a:ext cx="280440" cy="277920"/>
              <a:chOff x="2924640" y="5221440"/>
              <a:chExt cx="280440" cy="277920"/>
            </a:xfrm>
          </p:grpSpPr>
          <p:sp>
            <p:nvSpPr>
              <p:cNvPr id="313" name=""/>
              <p:cNvSpPr/>
              <p:nvPr/>
            </p:nvSpPr>
            <p:spPr>
              <a:xfrm>
                <a:off x="293832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464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4029480" y="5221440"/>
              <a:ext cx="280440" cy="277920"/>
              <a:chOff x="4029480" y="5221440"/>
              <a:chExt cx="280440" cy="277920"/>
            </a:xfrm>
          </p:grpSpPr>
          <p:sp>
            <p:nvSpPr>
              <p:cNvPr id="316" name=""/>
              <p:cNvSpPr/>
              <p:nvPr/>
            </p:nvSpPr>
            <p:spPr>
              <a:xfrm>
                <a:off x="404316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2948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753360" y="5221440"/>
              <a:ext cx="280440" cy="277920"/>
              <a:chOff x="3753360" y="5221440"/>
              <a:chExt cx="280440" cy="277920"/>
            </a:xfrm>
          </p:grpSpPr>
          <p:sp>
            <p:nvSpPr>
              <p:cNvPr id="319" name=""/>
              <p:cNvSpPr/>
              <p:nvPr/>
            </p:nvSpPr>
            <p:spPr>
              <a:xfrm>
                <a:off x="376704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5336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3477240" y="5221440"/>
              <a:ext cx="280440" cy="277920"/>
              <a:chOff x="3477240" y="5221440"/>
              <a:chExt cx="280440" cy="277920"/>
            </a:xfrm>
          </p:grpSpPr>
          <p:sp>
            <p:nvSpPr>
              <p:cNvPr id="322" name=""/>
              <p:cNvSpPr/>
              <p:nvPr/>
            </p:nvSpPr>
            <p:spPr>
              <a:xfrm>
                <a:off x="349092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7724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200760" y="5221440"/>
              <a:ext cx="280440" cy="277920"/>
              <a:chOff x="3200760" y="5221440"/>
              <a:chExt cx="280440" cy="277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21444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20076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 flipV="1">
            <a:off x="1465200" y="5306760"/>
            <a:ext cx="1381320" cy="19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208160" y="5611320"/>
            <a:ext cx="1628640" cy="19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200760" y="4687920"/>
            <a:ext cx="280800" cy="1068120"/>
            <a:chOff x="3200760" y="4687920"/>
            <a:chExt cx="280800" cy="1068120"/>
          </a:xfrm>
        </p:grpSpPr>
        <p:grpSp>
          <p:nvGrpSpPr>
            <p:cNvPr id="330" name=""/>
            <p:cNvGrpSpPr/>
            <p:nvPr/>
          </p:nvGrpSpPr>
          <p:grpSpPr>
            <a:xfrm>
              <a:off x="3200760" y="5478120"/>
              <a:ext cx="280800" cy="277920"/>
              <a:chOff x="3200760" y="5478120"/>
              <a:chExt cx="280800" cy="277920"/>
            </a:xfrm>
          </p:grpSpPr>
          <p:sp>
            <p:nvSpPr>
              <p:cNvPr id="331" name=""/>
              <p:cNvSpPr/>
              <p:nvPr/>
            </p:nvSpPr>
            <p:spPr>
              <a:xfrm>
                <a:off x="321480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20076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200760" y="5221080"/>
              <a:ext cx="280800" cy="277920"/>
              <a:chOff x="3200760" y="5221080"/>
              <a:chExt cx="280800" cy="277920"/>
            </a:xfrm>
          </p:grpSpPr>
          <p:sp>
            <p:nvSpPr>
              <p:cNvPr id="334" name=""/>
              <p:cNvSpPr/>
              <p:nvPr/>
            </p:nvSpPr>
            <p:spPr>
              <a:xfrm>
                <a:off x="321480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0076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200760" y="4954320"/>
              <a:ext cx="280800" cy="277920"/>
              <a:chOff x="3200760" y="4954320"/>
              <a:chExt cx="280800" cy="277920"/>
            </a:xfrm>
          </p:grpSpPr>
          <p:sp>
            <p:nvSpPr>
              <p:cNvPr id="337" name=""/>
              <p:cNvSpPr/>
              <p:nvPr/>
            </p:nvSpPr>
            <p:spPr>
              <a:xfrm>
                <a:off x="321480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0076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200760" y="4687920"/>
              <a:ext cx="280800" cy="277920"/>
              <a:chOff x="3200760" y="4687920"/>
              <a:chExt cx="280800" cy="277920"/>
            </a:xfrm>
          </p:grpSpPr>
          <p:sp>
            <p:nvSpPr>
              <p:cNvPr id="340" name=""/>
              <p:cNvSpPr/>
              <p:nvPr/>
            </p:nvSpPr>
            <p:spPr>
              <a:xfrm>
                <a:off x="321480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0076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3753000" y="4687920"/>
            <a:ext cx="280800" cy="1068120"/>
            <a:chOff x="3753000" y="4687920"/>
            <a:chExt cx="280800" cy="1068120"/>
          </a:xfrm>
        </p:grpSpPr>
        <p:grpSp>
          <p:nvGrpSpPr>
            <p:cNvPr id="343" name=""/>
            <p:cNvGrpSpPr/>
            <p:nvPr/>
          </p:nvGrpSpPr>
          <p:grpSpPr>
            <a:xfrm>
              <a:off x="3753000" y="5478120"/>
              <a:ext cx="280800" cy="277920"/>
              <a:chOff x="3753000" y="5478120"/>
              <a:chExt cx="280800" cy="277920"/>
            </a:xfrm>
          </p:grpSpPr>
          <p:sp>
            <p:nvSpPr>
              <p:cNvPr id="344" name=""/>
              <p:cNvSpPr/>
              <p:nvPr/>
            </p:nvSpPr>
            <p:spPr>
              <a:xfrm>
                <a:off x="376704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5300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3753000" y="5221080"/>
              <a:ext cx="280800" cy="277920"/>
              <a:chOff x="3753000" y="5221080"/>
              <a:chExt cx="280800" cy="277920"/>
            </a:xfrm>
          </p:grpSpPr>
          <p:sp>
            <p:nvSpPr>
              <p:cNvPr id="347" name=""/>
              <p:cNvSpPr/>
              <p:nvPr/>
            </p:nvSpPr>
            <p:spPr>
              <a:xfrm>
                <a:off x="376704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5300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753000" y="4954320"/>
              <a:ext cx="280800" cy="277920"/>
              <a:chOff x="3753000" y="4954320"/>
              <a:chExt cx="280800" cy="277920"/>
            </a:xfrm>
          </p:grpSpPr>
          <p:sp>
            <p:nvSpPr>
              <p:cNvPr id="350" name=""/>
              <p:cNvSpPr/>
              <p:nvPr/>
            </p:nvSpPr>
            <p:spPr>
              <a:xfrm>
                <a:off x="376704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5300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753000" y="4687920"/>
              <a:ext cx="280800" cy="277920"/>
              <a:chOff x="3753000" y="4687920"/>
              <a:chExt cx="280800" cy="277920"/>
            </a:xfrm>
          </p:grpSpPr>
          <p:sp>
            <p:nvSpPr>
              <p:cNvPr id="353" name=""/>
              <p:cNvSpPr/>
              <p:nvPr/>
            </p:nvSpPr>
            <p:spPr>
              <a:xfrm>
                <a:off x="376704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75300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"/>
          <p:cNvGrpSpPr/>
          <p:nvPr/>
        </p:nvGrpSpPr>
        <p:grpSpPr>
          <a:xfrm>
            <a:off x="4810320" y="5040360"/>
            <a:ext cx="1099080" cy="277920"/>
            <a:chOff x="4810320" y="5040360"/>
            <a:chExt cx="1099080" cy="277920"/>
          </a:xfrm>
        </p:grpSpPr>
        <p:grpSp>
          <p:nvGrpSpPr>
            <p:cNvPr id="356" name=""/>
            <p:cNvGrpSpPr/>
            <p:nvPr/>
          </p:nvGrpSpPr>
          <p:grpSpPr>
            <a:xfrm>
              <a:off x="5629320" y="5040360"/>
              <a:ext cx="280080" cy="277920"/>
              <a:chOff x="5629320" y="5040360"/>
              <a:chExt cx="280080" cy="277920"/>
            </a:xfrm>
          </p:grpSpPr>
          <p:sp>
            <p:nvSpPr>
              <p:cNvPr id="357" name=""/>
              <p:cNvSpPr/>
              <p:nvPr/>
            </p:nvSpPr>
            <p:spPr>
              <a:xfrm>
                <a:off x="5643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29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352840" y="5040360"/>
              <a:ext cx="280080" cy="277920"/>
              <a:chOff x="5352840" y="5040360"/>
              <a:chExt cx="280080" cy="277920"/>
            </a:xfrm>
          </p:grpSpPr>
          <p:sp>
            <p:nvSpPr>
              <p:cNvPr id="360" name=""/>
              <p:cNvSpPr/>
              <p:nvPr/>
            </p:nvSpPr>
            <p:spPr>
              <a:xfrm>
                <a:off x="536652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5284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086080" y="5040360"/>
              <a:ext cx="280080" cy="277920"/>
              <a:chOff x="5086080" y="5040360"/>
              <a:chExt cx="280080" cy="277920"/>
            </a:xfrm>
          </p:grpSpPr>
          <p:sp>
            <p:nvSpPr>
              <p:cNvPr id="363" name=""/>
              <p:cNvSpPr/>
              <p:nvPr/>
            </p:nvSpPr>
            <p:spPr>
              <a:xfrm>
                <a:off x="5100120" y="504036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8608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810320" y="5040360"/>
              <a:ext cx="280080" cy="277920"/>
              <a:chOff x="4810320" y="5040360"/>
              <a:chExt cx="280080" cy="277920"/>
            </a:xfrm>
          </p:grpSpPr>
          <p:sp>
            <p:nvSpPr>
              <p:cNvPr id="366" name=""/>
              <p:cNvSpPr/>
              <p:nvPr/>
            </p:nvSpPr>
            <p:spPr>
              <a:xfrm>
                <a:off x="4824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10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8" name=""/>
          <p:cNvGrpSpPr/>
          <p:nvPr/>
        </p:nvGrpSpPr>
        <p:grpSpPr>
          <a:xfrm>
            <a:off x="5905800" y="5040360"/>
            <a:ext cx="1099080" cy="277920"/>
            <a:chOff x="5905800" y="5040360"/>
            <a:chExt cx="1099080" cy="277920"/>
          </a:xfrm>
        </p:grpSpPr>
        <p:grpSp>
          <p:nvGrpSpPr>
            <p:cNvPr id="369" name=""/>
            <p:cNvGrpSpPr/>
            <p:nvPr/>
          </p:nvGrpSpPr>
          <p:grpSpPr>
            <a:xfrm>
              <a:off x="6724800" y="5040360"/>
              <a:ext cx="280080" cy="277920"/>
              <a:chOff x="6724800" y="5040360"/>
              <a:chExt cx="280080" cy="277920"/>
            </a:xfrm>
          </p:grpSpPr>
          <p:sp>
            <p:nvSpPr>
              <p:cNvPr id="370" name=""/>
              <p:cNvSpPr/>
              <p:nvPr/>
            </p:nvSpPr>
            <p:spPr>
              <a:xfrm>
                <a:off x="67384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24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448320" y="5040360"/>
              <a:ext cx="280080" cy="277920"/>
              <a:chOff x="6448320" y="5040360"/>
              <a:chExt cx="280080" cy="277920"/>
            </a:xfrm>
          </p:grpSpPr>
          <p:sp>
            <p:nvSpPr>
              <p:cNvPr id="373" name=""/>
              <p:cNvSpPr/>
              <p:nvPr/>
            </p:nvSpPr>
            <p:spPr>
              <a:xfrm>
                <a:off x="6462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48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181560" y="5040360"/>
              <a:ext cx="280080" cy="277920"/>
              <a:chOff x="6181560" y="5040360"/>
              <a:chExt cx="280080" cy="277920"/>
            </a:xfrm>
          </p:grpSpPr>
          <p:sp>
            <p:nvSpPr>
              <p:cNvPr id="376" name=""/>
              <p:cNvSpPr/>
              <p:nvPr/>
            </p:nvSpPr>
            <p:spPr>
              <a:xfrm>
                <a:off x="6195600" y="504036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8156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905800" y="5040360"/>
              <a:ext cx="280080" cy="277920"/>
              <a:chOff x="5905800" y="5040360"/>
              <a:chExt cx="280080" cy="277920"/>
            </a:xfrm>
          </p:grpSpPr>
          <p:sp>
            <p:nvSpPr>
              <p:cNvPr id="379" name=""/>
              <p:cNvSpPr/>
              <p:nvPr/>
            </p:nvSpPr>
            <p:spPr>
              <a:xfrm>
                <a:off x="59194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05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7000920" y="5040360"/>
            <a:ext cx="1100160" cy="277920"/>
            <a:chOff x="7000920" y="5040360"/>
            <a:chExt cx="1100160" cy="277920"/>
          </a:xfrm>
        </p:grpSpPr>
        <p:grpSp>
          <p:nvGrpSpPr>
            <p:cNvPr id="382" name=""/>
            <p:cNvGrpSpPr/>
            <p:nvPr/>
          </p:nvGrpSpPr>
          <p:grpSpPr>
            <a:xfrm>
              <a:off x="7820280" y="5040360"/>
              <a:ext cx="280800" cy="277920"/>
              <a:chOff x="7820280" y="5040360"/>
              <a:chExt cx="280800" cy="277920"/>
            </a:xfrm>
          </p:grpSpPr>
          <p:sp>
            <p:nvSpPr>
              <p:cNvPr id="383" name=""/>
              <p:cNvSpPr/>
              <p:nvPr/>
            </p:nvSpPr>
            <p:spPr>
              <a:xfrm>
                <a:off x="783432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82028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543800" y="5040360"/>
              <a:ext cx="280800" cy="277920"/>
              <a:chOff x="7543800" y="5040360"/>
              <a:chExt cx="280800" cy="277920"/>
            </a:xfrm>
          </p:grpSpPr>
          <p:sp>
            <p:nvSpPr>
              <p:cNvPr id="386" name=""/>
              <p:cNvSpPr/>
              <p:nvPr/>
            </p:nvSpPr>
            <p:spPr>
              <a:xfrm>
                <a:off x="755784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43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277400" y="5040360"/>
              <a:ext cx="280080" cy="277920"/>
              <a:chOff x="7277400" y="5040360"/>
              <a:chExt cx="280080" cy="277920"/>
            </a:xfrm>
          </p:grpSpPr>
          <p:sp>
            <p:nvSpPr>
              <p:cNvPr id="389" name=""/>
              <p:cNvSpPr/>
              <p:nvPr/>
            </p:nvSpPr>
            <p:spPr>
              <a:xfrm>
                <a:off x="72910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774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000920" y="5040360"/>
              <a:ext cx="280800" cy="277920"/>
              <a:chOff x="7000920" y="5040360"/>
              <a:chExt cx="280800" cy="277920"/>
            </a:xfrm>
          </p:grpSpPr>
          <p:sp>
            <p:nvSpPr>
              <p:cNvPr id="392" name=""/>
              <p:cNvSpPr/>
              <p:nvPr/>
            </p:nvSpPr>
            <p:spPr>
              <a:xfrm>
                <a:off x="701496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009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4810320" y="5383080"/>
            <a:ext cx="1099080" cy="277920"/>
            <a:chOff x="4810320" y="5383080"/>
            <a:chExt cx="1099080" cy="277920"/>
          </a:xfrm>
        </p:grpSpPr>
        <p:grpSp>
          <p:nvGrpSpPr>
            <p:cNvPr id="395" name=""/>
            <p:cNvGrpSpPr/>
            <p:nvPr/>
          </p:nvGrpSpPr>
          <p:grpSpPr>
            <a:xfrm>
              <a:off x="5629320" y="5383080"/>
              <a:ext cx="280080" cy="277920"/>
              <a:chOff x="5629320" y="5383080"/>
              <a:chExt cx="280080" cy="277920"/>
            </a:xfrm>
          </p:grpSpPr>
          <p:sp>
            <p:nvSpPr>
              <p:cNvPr id="396" name=""/>
              <p:cNvSpPr/>
              <p:nvPr/>
            </p:nvSpPr>
            <p:spPr>
              <a:xfrm>
                <a:off x="5643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29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352840" y="5383080"/>
              <a:ext cx="280080" cy="277920"/>
              <a:chOff x="5352840" y="5383080"/>
              <a:chExt cx="280080" cy="277920"/>
            </a:xfrm>
          </p:grpSpPr>
          <p:sp>
            <p:nvSpPr>
              <p:cNvPr id="399" name=""/>
              <p:cNvSpPr/>
              <p:nvPr/>
            </p:nvSpPr>
            <p:spPr>
              <a:xfrm>
                <a:off x="536652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35284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086080" y="5383080"/>
              <a:ext cx="280080" cy="277920"/>
              <a:chOff x="5086080" y="5383080"/>
              <a:chExt cx="280080" cy="277920"/>
            </a:xfrm>
          </p:grpSpPr>
          <p:sp>
            <p:nvSpPr>
              <p:cNvPr id="402" name=""/>
              <p:cNvSpPr/>
              <p:nvPr/>
            </p:nvSpPr>
            <p:spPr>
              <a:xfrm>
                <a:off x="5100120" y="538308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08608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4810320" y="5383080"/>
              <a:ext cx="280080" cy="277920"/>
              <a:chOff x="4810320" y="5383080"/>
              <a:chExt cx="280080" cy="277920"/>
            </a:xfrm>
          </p:grpSpPr>
          <p:sp>
            <p:nvSpPr>
              <p:cNvPr id="405" name=""/>
              <p:cNvSpPr/>
              <p:nvPr/>
            </p:nvSpPr>
            <p:spPr>
              <a:xfrm>
                <a:off x="4824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10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"/>
          <p:cNvSpPr/>
          <p:nvPr/>
        </p:nvSpPr>
        <p:spPr>
          <a:xfrm>
            <a:off x="4008600" y="4811760"/>
            <a:ext cx="135252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51400" y="4821120"/>
            <a:ext cx="0" cy="16200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029120" y="4687920"/>
            <a:ext cx="280800" cy="1068120"/>
            <a:chOff x="4029120" y="4687920"/>
            <a:chExt cx="280800" cy="1068120"/>
          </a:xfrm>
        </p:grpSpPr>
        <p:grpSp>
          <p:nvGrpSpPr>
            <p:cNvPr id="410" name=""/>
            <p:cNvGrpSpPr/>
            <p:nvPr/>
          </p:nvGrpSpPr>
          <p:grpSpPr>
            <a:xfrm>
              <a:off x="4029120" y="5478120"/>
              <a:ext cx="280800" cy="277920"/>
              <a:chOff x="4029120" y="5478120"/>
              <a:chExt cx="280800" cy="277920"/>
            </a:xfrm>
          </p:grpSpPr>
          <p:sp>
            <p:nvSpPr>
              <p:cNvPr id="411" name=""/>
              <p:cNvSpPr/>
              <p:nvPr/>
            </p:nvSpPr>
            <p:spPr>
              <a:xfrm>
                <a:off x="404316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02912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4029120" y="5221080"/>
              <a:ext cx="280800" cy="277920"/>
              <a:chOff x="4029120" y="5221080"/>
              <a:chExt cx="280800" cy="277920"/>
            </a:xfrm>
          </p:grpSpPr>
          <p:sp>
            <p:nvSpPr>
              <p:cNvPr id="414" name=""/>
              <p:cNvSpPr/>
              <p:nvPr/>
            </p:nvSpPr>
            <p:spPr>
              <a:xfrm>
                <a:off x="404316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02912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029120" y="4954320"/>
              <a:ext cx="280800" cy="277920"/>
              <a:chOff x="4029120" y="4954320"/>
              <a:chExt cx="280800" cy="277920"/>
            </a:xfrm>
          </p:grpSpPr>
          <p:sp>
            <p:nvSpPr>
              <p:cNvPr id="417" name=""/>
              <p:cNvSpPr/>
              <p:nvPr/>
            </p:nvSpPr>
            <p:spPr>
              <a:xfrm>
                <a:off x="404316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02912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4029120" y="4687920"/>
              <a:ext cx="280800" cy="277920"/>
              <a:chOff x="4029120" y="4687920"/>
              <a:chExt cx="280800" cy="277920"/>
            </a:xfrm>
          </p:grpSpPr>
          <p:sp>
            <p:nvSpPr>
              <p:cNvPr id="420" name=""/>
              <p:cNvSpPr/>
              <p:nvPr/>
            </p:nvSpPr>
            <p:spPr>
              <a:xfrm>
                <a:off x="404316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02912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"/>
          <p:cNvSpPr/>
          <p:nvPr/>
        </p:nvSpPr>
        <p:spPr>
          <a:xfrm>
            <a:off x="4303800" y="4735440"/>
            <a:ext cx="214308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446880" y="4745160"/>
            <a:ext cx="0" cy="22860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924280" y="4687920"/>
            <a:ext cx="280800" cy="1068120"/>
            <a:chOff x="2924280" y="4687920"/>
            <a:chExt cx="280800" cy="1068120"/>
          </a:xfrm>
        </p:grpSpPr>
        <p:grpSp>
          <p:nvGrpSpPr>
            <p:cNvPr id="425" name=""/>
            <p:cNvGrpSpPr/>
            <p:nvPr/>
          </p:nvGrpSpPr>
          <p:grpSpPr>
            <a:xfrm>
              <a:off x="2924280" y="5478120"/>
              <a:ext cx="280800" cy="277920"/>
              <a:chOff x="2924280" y="5478120"/>
              <a:chExt cx="280800" cy="277920"/>
            </a:xfrm>
          </p:grpSpPr>
          <p:sp>
            <p:nvSpPr>
              <p:cNvPr id="426" name=""/>
              <p:cNvSpPr/>
              <p:nvPr/>
            </p:nvSpPr>
            <p:spPr>
              <a:xfrm>
                <a:off x="293832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92428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2924280" y="5221080"/>
              <a:ext cx="280800" cy="277920"/>
              <a:chOff x="2924280" y="5221080"/>
              <a:chExt cx="280800" cy="277920"/>
            </a:xfrm>
          </p:grpSpPr>
          <p:sp>
            <p:nvSpPr>
              <p:cNvPr id="429" name=""/>
              <p:cNvSpPr/>
              <p:nvPr/>
            </p:nvSpPr>
            <p:spPr>
              <a:xfrm>
                <a:off x="293832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2428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924280" y="4954320"/>
              <a:ext cx="280800" cy="277920"/>
              <a:chOff x="2924280" y="4954320"/>
              <a:chExt cx="280800" cy="277920"/>
            </a:xfrm>
          </p:grpSpPr>
          <p:sp>
            <p:nvSpPr>
              <p:cNvPr id="432" name=""/>
              <p:cNvSpPr/>
              <p:nvPr/>
            </p:nvSpPr>
            <p:spPr>
              <a:xfrm>
                <a:off x="293832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92428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2924280" y="4687920"/>
              <a:ext cx="280800" cy="277920"/>
              <a:chOff x="2924280" y="4687920"/>
              <a:chExt cx="280800" cy="277920"/>
            </a:xfrm>
          </p:grpSpPr>
          <p:sp>
            <p:nvSpPr>
              <p:cNvPr id="435" name=""/>
              <p:cNvSpPr/>
              <p:nvPr/>
            </p:nvSpPr>
            <p:spPr>
              <a:xfrm>
                <a:off x="293832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2428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3189240" y="4811760"/>
            <a:ext cx="436248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42360" y="4821120"/>
            <a:ext cx="0" cy="1904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905800" y="5383080"/>
            <a:ext cx="1099080" cy="277920"/>
            <a:chOff x="5905800" y="5383080"/>
            <a:chExt cx="1099080" cy="277920"/>
          </a:xfrm>
        </p:grpSpPr>
        <p:grpSp>
          <p:nvGrpSpPr>
            <p:cNvPr id="440" name=""/>
            <p:cNvGrpSpPr/>
            <p:nvPr/>
          </p:nvGrpSpPr>
          <p:grpSpPr>
            <a:xfrm>
              <a:off x="6724800" y="5383080"/>
              <a:ext cx="280080" cy="277920"/>
              <a:chOff x="6724800" y="5383080"/>
              <a:chExt cx="280080" cy="277920"/>
            </a:xfrm>
          </p:grpSpPr>
          <p:sp>
            <p:nvSpPr>
              <p:cNvPr id="441" name=""/>
              <p:cNvSpPr/>
              <p:nvPr/>
            </p:nvSpPr>
            <p:spPr>
              <a:xfrm>
                <a:off x="673848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72480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448320" y="5383080"/>
              <a:ext cx="280080" cy="277920"/>
              <a:chOff x="6448320" y="5383080"/>
              <a:chExt cx="280080" cy="277920"/>
            </a:xfrm>
          </p:grpSpPr>
          <p:sp>
            <p:nvSpPr>
              <p:cNvPr id="444" name=""/>
              <p:cNvSpPr/>
              <p:nvPr/>
            </p:nvSpPr>
            <p:spPr>
              <a:xfrm>
                <a:off x="6462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448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181560" y="5383080"/>
              <a:ext cx="280080" cy="277920"/>
              <a:chOff x="6181560" y="5383080"/>
              <a:chExt cx="280080" cy="277920"/>
            </a:xfrm>
          </p:grpSpPr>
          <p:sp>
            <p:nvSpPr>
              <p:cNvPr id="447" name=""/>
              <p:cNvSpPr/>
              <p:nvPr/>
            </p:nvSpPr>
            <p:spPr>
              <a:xfrm>
                <a:off x="6195600" y="538308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8156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5905800" y="5383080"/>
              <a:ext cx="280080" cy="277920"/>
              <a:chOff x="5905800" y="5383080"/>
              <a:chExt cx="280080" cy="277920"/>
            </a:xfrm>
          </p:grpSpPr>
          <p:sp>
            <p:nvSpPr>
              <p:cNvPr id="450" name=""/>
              <p:cNvSpPr/>
              <p:nvPr/>
            </p:nvSpPr>
            <p:spPr>
              <a:xfrm>
                <a:off x="591948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90580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3486240" y="4687920"/>
            <a:ext cx="280800" cy="1068120"/>
            <a:chOff x="3486240" y="4687920"/>
            <a:chExt cx="280800" cy="1068120"/>
          </a:xfrm>
        </p:grpSpPr>
        <p:grpSp>
          <p:nvGrpSpPr>
            <p:cNvPr id="453" name=""/>
            <p:cNvGrpSpPr/>
            <p:nvPr/>
          </p:nvGrpSpPr>
          <p:grpSpPr>
            <a:xfrm>
              <a:off x="3486240" y="5478120"/>
              <a:ext cx="280800" cy="277920"/>
              <a:chOff x="3486240" y="5478120"/>
              <a:chExt cx="280800" cy="277920"/>
            </a:xfrm>
          </p:grpSpPr>
          <p:sp>
            <p:nvSpPr>
              <p:cNvPr id="454" name=""/>
              <p:cNvSpPr/>
              <p:nvPr/>
            </p:nvSpPr>
            <p:spPr>
              <a:xfrm>
                <a:off x="350028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8624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3486240" y="5221080"/>
              <a:ext cx="280800" cy="277920"/>
              <a:chOff x="3486240" y="5221080"/>
              <a:chExt cx="280800" cy="277920"/>
            </a:xfrm>
          </p:grpSpPr>
          <p:sp>
            <p:nvSpPr>
              <p:cNvPr id="457" name=""/>
              <p:cNvSpPr/>
              <p:nvPr/>
            </p:nvSpPr>
            <p:spPr>
              <a:xfrm>
                <a:off x="350028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8624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486240" y="4954320"/>
              <a:ext cx="280800" cy="277920"/>
              <a:chOff x="3486240" y="4954320"/>
              <a:chExt cx="280800" cy="277920"/>
            </a:xfrm>
          </p:grpSpPr>
          <p:sp>
            <p:nvSpPr>
              <p:cNvPr id="460" name=""/>
              <p:cNvSpPr/>
              <p:nvPr/>
            </p:nvSpPr>
            <p:spPr>
              <a:xfrm>
                <a:off x="350028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8624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3486240" y="4687920"/>
              <a:ext cx="280800" cy="277920"/>
              <a:chOff x="3486240" y="4687920"/>
              <a:chExt cx="280800" cy="277920"/>
            </a:xfrm>
          </p:grpSpPr>
          <p:sp>
            <p:nvSpPr>
              <p:cNvPr id="463" name=""/>
              <p:cNvSpPr/>
              <p:nvPr/>
            </p:nvSpPr>
            <p:spPr>
              <a:xfrm>
                <a:off x="350028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48624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3608280" y="5745240"/>
            <a:ext cx="0" cy="17136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98920" y="5916600"/>
            <a:ext cx="174312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342040" y="5678280"/>
            <a:ext cx="0" cy="2379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351240" y="5754600"/>
            <a:ext cx="9360" cy="28584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51240" y="6031080"/>
            <a:ext cx="309564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6446880" y="5697000"/>
            <a:ext cx="0" cy="3337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7844E-9B6F-4234-B509-D746446893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 will implement a double column transposi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2262240" y="3419640"/>
            <a:ext cx="5113440" cy="229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E6186-F42C-457B-9095-BA131BDE80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0T01:51:27Z</dcterms:modified>
  <cp:revision>69</cp:revision>
  <dc:subject/>
  <dc:title>CAP Cryptographic Analysis Program</dc:title>
</cp:coreProperties>
</file>